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volutions of the gain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pha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f the OLT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or different u^1/u¯1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owchart of the H∞ loop-shaping controller design. Note that the post-compensat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W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mparisons between the original plant and fitted plant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High-order fitting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Low-order fitting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0</a:t>
            </a:r>
            <a:r>
              <a:rPr b="0" i="1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0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W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W1=WL2 (see equation (5.7))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lot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or different u^1/u¯1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High-order fitting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0</a:t>
            </a:r>
            <a:r>
              <a:rPr b="0" i="1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(i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ω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(i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ω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)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Low-order fitting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ψ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0</a:t>
            </a:r>
            <a:r>
              <a:rPr b="0" i="1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W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(i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ω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i="1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(i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ω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). The dashed line represents the stability margin of the controller: b∞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rajectories of eigenvalues with increasing u^1/u¯1 for the feedback control system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High-order controller deign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Low-order controller design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volution of |S| with frequency for different u^1/u¯1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High-order controller design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Low-order controller design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lotof the growth rate of the unstable mod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≈210 Hz) with and without control for different flame positio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different velocity perturbation levels u^1/u¯1. The dot markers represent the average growth rates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volut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u1′/u¯1 with time. The controller is switched on wh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0.5 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0.2 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chematic view of the Rijke tube and the feedback control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mparisonbetween locations of the flame front deduced using LSA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Schlieren techniques [48,49]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f a laminar conical premixed flame when the flame is modulated a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100 Hz for a perturbation level u^1/u¯1=0.1. t/T=120, where T=1/fp. In the Schlieren image, the yellow part represents the flame front, and the red part indicates the hot plume surrounding the flame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Flame front at four instants in a forcing cycle. t/T=14,12,34 and 1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 50 Hz. u^1/u¯1=0.15.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Spectra of u1′/u¯1 (represented by the dashed line and corresponding to the left vertical axis) and Q˙′/Q˙¯ (represented by the continuous line and corresponding to the right vertical ax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DF of a laminar conical premixed methane–air flame deduced from the LSA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experiments [50]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Top graph: gain. Bottom graph: phase. Mean flow velocity is u¯1=2.12 m s−1 and equivalence ratio 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1.08. Burner diameter 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22 mm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gain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pha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f the FDF determined by the LSA for a laminar conical premixed methane–air flame. u¯1=1.5 m s−1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6 mm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1.0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ntour plot of the positive growth rat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f the unstable mode wit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u^1/u¯1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rajectories of eigenvalues with increasing u^1/u¯1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=0.2 m. The mode with frequency ∼100 Hz is introduced by the time delay of the FDF and is always stable. (Online version in colour.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The sketch of the negative feedback control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edback control of combustion instabilities from within limit cycle oscillations using H∞ loop-shaping and the ν-gap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Jingxuan Li, and Aimee S. Morg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ceeding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472(2191):201508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ly 13,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volutions of the gain (a) and phase (b) of the OLTF P with f for different u^1/u¯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9800" y="2163600"/>
            <a:ext cx="8604360" cy="3225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owchart of the H∞ loop-shaping controller desig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9800" y="1249200"/>
            <a:ext cx="8604360" cy="5054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arisons between the original plant and fitted pla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9800" y="1790640"/>
            <a:ext cx="8604360" cy="3971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otof ψ with f for different u^1/u¯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39800" y="2243160"/>
            <a:ext cx="8604360" cy="3065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jectories of eigenvalues with increasing u^1/u¯1 for the feedback control syste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39800" y="1947960"/>
            <a:ext cx="8604360" cy="3655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volution of |S| with frequency for different u^1/u¯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39800" y="2193840"/>
            <a:ext cx="8604360" cy="3165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otof the growth rate of the unstable mode (f≈210 Hz) with and without control for different flame positions xf and different velocity perturbation levels u^1/u¯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19120" y="1079640"/>
            <a:ext cx="7245360" cy="5394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1912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volution of pL and u1′/u¯1 with tim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39800" y="2381400"/>
            <a:ext cx="8604360" cy="2788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hematic view of the Rijke tube and the feedback control configu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34960" y="1079640"/>
            <a:ext cx="72154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349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arisonbetween locations of the flame front deduced using LSA (a) and Schlieren techniques [48,49] (b) of a laminar conical premixed flame when the flame is modulated at fp=100 Hz for a perturbation level u^1/u¯1=0.1. t/T=120, where T=1/f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30560" y="1079640"/>
            <a:ext cx="56228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305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a) Flame front at four instants in a forcing cycle. t/T=14,12,34 and 1. fp= 50 Hz. u^1/u¯1=0.15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800" y="1881360"/>
            <a:ext cx="8604360" cy="379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DF of a laminar conical premixed methane–air flame deduced from the LSA (a) and experiments [50] (b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800" y="1758960"/>
            <a:ext cx="8604360" cy="4033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gain (a) and phase (b) of the FDF determined by the LSA for a laminar conical premixed methane–air flame. u¯1=1.5 m s−1. d=6 mm. ϕ=1.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9800" y="1932120"/>
            <a:ext cx="8604360" cy="369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our plot of the positive growth rate σ of the unstable mode with xf and u^1/u¯1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73160" y="1079640"/>
            <a:ext cx="6139080" cy="5394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31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jectories of eigenvalues with increasing u^1/u¯1. xf=0.2 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62000" y="1079640"/>
            <a:ext cx="6161400" cy="5394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620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sketch of the negative feedback control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820000" y="6983280"/>
            <a:ext cx="895680" cy="409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39800" y="1581120"/>
            <a:ext cx="8604360" cy="4389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gxuan Li, and Aimee S. Morgans Proc. R. Soc. A 2016;472:20150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2016 The Auth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